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FE54A-A1C5-415F-B18E-490E9349A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9EB1-6AD5-4D82-B909-C731DA14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E1CFB-52D6-4001-B19F-CF29C21E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3EEAE-502A-4932-BB58-2A86A8C5A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599C-81FB-45EA-8A40-B205E8338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76F2-BF04-4689-9499-A3952D453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DC529-C138-482D-A78B-2D5640E48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4875-D44C-4FC0-AE52-6D25486D0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9960-D1D0-4580-A47B-091867678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522-737E-4417-BD35-062A35E83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6819-B34A-46FC-BB2F-631488164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CCA4-1D5B-4711-9DEB-05CF30A2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9704-8ED4-4E4B-94BE-2C7EC2574F1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43" name="6 CuadroTexto"/>
          <p:cNvSpPr/>
          <p:nvPr/>
        </p:nvSpPr>
        <p:spPr>
          <a:xfrm>
            <a:off x="0" y="4492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Universidad  Nacional Autónoma de Méx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Facultad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11 CuadroTexto"/>
          <p:cNvSpPr/>
          <p:nvPr/>
        </p:nvSpPr>
        <p:spPr>
          <a:xfrm>
            <a:off x="971640" y="1700280"/>
            <a:ext cx="727236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66"/>
                </a:solidFill>
                <a:latin typeface="Corbel"/>
              </a:rPr>
              <a:t>Análisis de Fortalezas, Oportunidades,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5400" spc="-1" strike="noStrike">
                <a:solidFill>
                  <a:srgbClr val="ffff66"/>
                </a:solidFill>
                <a:latin typeface="Corbel"/>
              </a:rPr>
              <a:t>Debilidades y Amenazas</a:t>
            </a:r>
            <a:r>
              <a:rPr b="1" lang="es-MX" sz="4800" spc="-1" strike="noStrike">
                <a:solidFill>
                  <a:srgbClr val="ffff66"/>
                </a:solidFill>
                <a:latin typeface="Corbe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800" spc="-1" strike="noStrike">
                <a:solidFill>
                  <a:srgbClr val="ffff66"/>
                </a:solidFill>
                <a:latin typeface="Corbel"/>
              </a:rPr>
              <a:t>(FODA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02" name="6 CuadroTexto"/>
          <p:cNvSpPr/>
          <p:nvPr/>
        </p:nvSpPr>
        <p:spPr>
          <a:xfrm>
            <a:off x="1332000" y="40464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nálisis de Fortalezas, Oportunidades, Debilidades y Amenazas (FO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4"/>
          <p:cNvSpPr/>
          <p:nvPr/>
        </p:nvSpPr>
        <p:spPr>
          <a:xfrm>
            <a:off x="900000" y="3203640"/>
            <a:ext cx="73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66"/>
                </a:solidFill>
                <a:latin typeface="Verdana"/>
              </a:rPr>
              <a:t>Ejemplo de un Análisis FO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08" name="6 CuadroTexto"/>
          <p:cNvSpPr/>
          <p:nvPr/>
        </p:nvSpPr>
        <p:spPr>
          <a:xfrm>
            <a:off x="1332000" y="40464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nálisis de Fortalezas, Oportunidades, Debilidades y Amenazas (FO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1547640" y="1700280"/>
          <a:ext cx="6210360" cy="4378320"/>
        </p:xfrm>
        <a:graphic>
          <a:graphicData uri="http://schemas.openxmlformats.org/drawingml/2006/table">
            <a:tbl>
              <a:tblPr/>
              <a:tblGrid>
                <a:gridCol w="3105360"/>
                <a:gridCol w="3105000"/>
              </a:tblGrid>
              <a:tr h="54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Fortalez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Oportun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758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oro mucho de mi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400"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ocimiento sobre el te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400"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ilidad para compresión de lectu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400"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ominio del ingl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400"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tecedentes sobre el áre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 puntos fuertes me sirven para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400"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er soci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400"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abajar en equip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400"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riterio ampl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ebilidad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8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Amenaz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49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conozco que debería mejorar en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400"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álculo vectori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400"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icios de aplicación (formulaz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400"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rtografía y redac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s puntos débiles pueden llevarme a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400"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tracciones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400"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las influenci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68400">
                        <a:spcBef>
                          <a:spcPts val="700"/>
                        </a:spcBef>
                        <a:buClr>
                          <a:srgbClr val="000000"/>
                        </a:buClr>
                        <a:buSzPct val="95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1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ajas calificacion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114" name="6 CuadroTexto"/>
          <p:cNvSpPr/>
          <p:nvPr/>
        </p:nvSpPr>
        <p:spPr>
          <a:xfrm>
            <a:off x="1332000" y="40464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nálisis de Fortalezas, Oportunidades, Debilidades y Amenazas (FO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900000" y="2478240"/>
            <a:ext cx="734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Rockwell"/>
              </a:rPr>
              <a:t>Esta autoevaluación permitió conocer la situación académica personal de cada estudiante y de esta forma darle una nueva dirección que favorezca su desempeño académ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900000" y="5692680"/>
            <a:ext cx="496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Nadie más que tú, es dueño de tu desti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49" name="6 CuadroTexto"/>
          <p:cNvSpPr/>
          <p:nvPr/>
        </p:nvSpPr>
        <p:spPr>
          <a:xfrm>
            <a:off x="1332000" y="40464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nálisis de Fortalezas, Oportunidades, Debilidades y Amenazas (FO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 Título"/>
          <p:cNvSpPr/>
          <p:nvPr/>
        </p:nvSpPr>
        <p:spPr>
          <a:xfrm>
            <a:off x="826920" y="1125360"/>
            <a:ext cx="7417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66"/>
                </a:solidFill>
                <a:latin typeface="Rockwell"/>
              </a:rPr>
              <a:t>Reflexión de la sesión anteri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Rockwell"/>
              </a:rPr>
              <a:t>Actividad</a:t>
            </a:r>
            <a:r>
              <a:rPr b="0" lang="es-ES" sz="2400" spc="-1" strike="noStrike">
                <a:solidFill>
                  <a:srgbClr val="ffffff"/>
                </a:solidFill>
                <a:latin typeface="Rockwell"/>
              </a:rPr>
              <a:t>1</a:t>
            </a:r>
            <a:r>
              <a:rPr b="0" lang="es-MX" sz="2400" spc="-1" strike="noStrike">
                <a:solidFill>
                  <a:srgbClr val="ffffff"/>
                </a:solidFill>
                <a:latin typeface="Rockwel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Rockwell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Rockwell"/>
              </a:rPr>
              <a:t>Realizando la actividad Lúdica de lanzar un dado, en donde cada una de las caras tiene diferentes preguntas</a:t>
            </a:r>
            <a:r>
              <a:rPr b="0" lang="es-MX" sz="2400" spc="-1" strike="noStrike">
                <a:solidFill>
                  <a:srgbClr val="ffffff"/>
                </a:solidFill>
                <a:latin typeface="Rockwell"/>
              </a:rPr>
              <a:t>,</a:t>
            </a:r>
            <a:r>
              <a:rPr b="0" lang="es-ES" sz="2400" spc="-1" strike="noStrike">
                <a:solidFill>
                  <a:srgbClr val="ffffff"/>
                </a:solidFill>
                <a:latin typeface="Rockwell"/>
              </a:rPr>
              <a:t> se recupera el objetivo de la sesión anterio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971640" y="3933720"/>
          <a:ext cx="7488000" cy="2401920"/>
        </p:xfrm>
        <a:graphic>
          <a:graphicData uri="http://schemas.openxmlformats.org/drawingml/2006/table">
            <a:tbl>
              <a:tblPr/>
              <a:tblGrid>
                <a:gridCol w="681120"/>
                <a:gridCol w="6806880"/>
              </a:tblGrid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Coincidieron tus resultados del examen diagnostico con los de tu auto evaluación?  Porque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atica  una buena película que hayas vis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 que te sirve saber que tan bien o mal estas en los temas evaluados en el examen diagnostico?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uenta una anécdota que  haya dejado huella en tu vida , no importa el tem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51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¿Cuál es tu compromiso como estudiante 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68400" algn="just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be detalladamente  alguna habilidad que teng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56" name="6 CuadroTexto"/>
          <p:cNvSpPr/>
          <p:nvPr/>
        </p:nvSpPr>
        <p:spPr>
          <a:xfrm>
            <a:off x="1332000" y="40464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nálisis de Fortalezas, Oportunidades, Debilidades y Amenazas (FO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1 Título"/>
          <p:cNvSpPr/>
          <p:nvPr/>
        </p:nvSpPr>
        <p:spPr>
          <a:xfrm>
            <a:off x="826920" y="1557360"/>
            <a:ext cx="741708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66"/>
                </a:solidFill>
                <a:latin typeface="Arial"/>
              </a:rPr>
              <a:t>Objetiv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laborarán un análisis que les permita identificar sus fortalezas, oportunidades, debilidades y amenazas (FODA) para su desempeño como estudiantes en la 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4356000" y="4307040"/>
            <a:ext cx="410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Que se entiende por: Fortalezas, Oportunidades, Debilidades y Amenaz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30400"/>
                            </p:stCondLst>
                            <p:childTnLst>
                              <p:par>
                                <p:cTn id="3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63" name="6 CuadroTexto"/>
          <p:cNvSpPr/>
          <p:nvPr/>
        </p:nvSpPr>
        <p:spPr>
          <a:xfrm>
            <a:off x="1332000" y="40464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nálisis de Fortalezas, Oportunidades, Debilidades y Amenazas (FO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971640" y="1903320"/>
            <a:ext cx="7272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l FODA es una herramienta de análisis estratégico, que permite analizar elementos internos o externos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que influyen en el desempeño como estudiante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 representa a través de una matriz de doble entra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69" name="6 CuadroTexto"/>
          <p:cNvSpPr/>
          <p:nvPr/>
        </p:nvSpPr>
        <p:spPr>
          <a:xfrm>
            <a:off x="1332000" y="40464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nálisis de Fortalezas, Oportunidades, Debilidades y Amenazas (FO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755640" y="1413000"/>
            <a:ext cx="756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Las </a:t>
            </a:r>
            <a:r>
              <a:rPr b="1" i="1" lang="es-ES" sz="2400" spc="-1" strike="noStrike">
                <a:solidFill>
                  <a:srgbClr val="ffff66"/>
                </a:solidFill>
                <a:latin typeface="Arial"/>
              </a:rPr>
              <a:t>Fortalezas</a:t>
            </a: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66"/>
                </a:solidFill>
                <a:latin typeface="Arial"/>
              </a:rPr>
              <a:t>(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on todos aquellos elementos internos y positivos que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influyen en el desempeño como estudia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755640" y="357336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Las </a:t>
            </a:r>
            <a:r>
              <a:rPr b="1" i="1" lang="es-ES" sz="2400" spc="-1" strike="noStrike">
                <a:solidFill>
                  <a:srgbClr val="ffff66"/>
                </a:solidFill>
                <a:latin typeface="Arial"/>
              </a:rPr>
              <a:t>Oportunidades</a:t>
            </a:r>
            <a:r>
              <a:rPr b="1" i="1" lang="es-MX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66"/>
                </a:solidFill>
                <a:latin typeface="Arial"/>
              </a:rPr>
              <a:t>(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on aquellas situaciones externa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positivas, que se generan en el entorno y que una vez identificadas pueden ser aprovech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76" name="6 CuadroTexto"/>
          <p:cNvSpPr/>
          <p:nvPr/>
        </p:nvSpPr>
        <p:spPr>
          <a:xfrm>
            <a:off x="1332000" y="40464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nálisis de Fortalezas, Oportunidades, Debilidades y Amenazas (FO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826920" y="141300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Las </a:t>
            </a:r>
            <a:r>
              <a:rPr b="1" i="1" lang="es-ES" sz="2400" spc="-1" strike="noStrike">
                <a:solidFill>
                  <a:srgbClr val="ffff66"/>
                </a:solidFill>
                <a:latin typeface="Arial"/>
              </a:rPr>
              <a:t>Debilidades</a:t>
            </a:r>
            <a:r>
              <a:rPr b="1" i="1" lang="es-MX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66"/>
                </a:solidFill>
                <a:latin typeface="Arial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on problemas internos, que una vez identificados y desarrollando una adecuada estrategia, pueden y deben eliminar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755640" y="3789360"/>
            <a:ext cx="7561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66"/>
                </a:solidFill>
                <a:latin typeface="Arial"/>
              </a:rPr>
              <a:t>Las </a:t>
            </a:r>
            <a:r>
              <a:rPr b="1" i="1" lang="es-ES" sz="2400" spc="-1" strike="noStrike">
                <a:solidFill>
                  <a:srgbClr val="ffff66"/>
                </a:solidFill>
                <a:latin typeface="Arial"/>
              </a:rPr>
              <a:t>Amenazas</a:t>
            </a:r>
            <a:r>
              <a:rPr b="1" i="1" lang="es-MX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s-MX" sz="2400" spc="-1" strike="noStrike">
                <a:solidFill>
                  <a:srgbClr val="ffff66"/>
                </a:solidFill>
                <a:latin typeface="Arial"/>
              </a:rPr>
              <a:t>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on situaciones negativas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 y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externas, que pueden atentar contra 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el desempeño como estudiante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or lo que llegado al caso, puede ser necesario diseñar una estrategia adecuada para poder sortear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83" name="6 CuadroTexto"/>
          <p:cNvSpPr/>
          <p:nvPr/>
        </p:nvSpPr>
        <p:spPr>
          <a:xfrm>
            <a:off x="1332000" y="40464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nálisis de Fortalezas, Oportunidades, Debilidades y Amenazas (FO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539640" y="1844640"/>
            <a:ext cx="78487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n síntes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0" i="1" lang="es-ES" sz="2800" spc="-1" strike="noStrike">
                <a:solidFill>
                  <a:srgbClr val="ffff66"/>
                </a:solidFill>
                <a:latin typeface="Arial"/>
              </a:rPr>
              <a:t>fortalez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ben utilizarse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o impuls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0" i="1" lang="es-ES" sz="2800" spc="-1" strike="noStrike">
                <a:solidFill>
                  <a:srgbClr val="ffff66"/>
                </a:solidFill>
                <a:latin typeface="Arial"/>
              </a:rPr>
              <a:t>oportunidad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ben aprovechar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</a:t>
            </a:r>
            <a:r>
              <a:rPr b="0" i="1" lang="es-ES" sz="2800" spc="-1" strike="noStrike">
                <a:solidFill>
                  <a:srgbClr val="ffff66"/>
                </a:solidFill>
                <a:latin typeface="Arial"/>
              </a:rPr>
              <a:t>debilidade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deben eliminarse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o superarse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</a:t>
            </a: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es-ES" sz="2800" spc="-1" strike="noStrike">
                <a:solidFill>
                  <a:srgbClr val="ffff66"/>
                </a:solidFill>
                <a:latin typeface="Arial"/>
              </a:rPr>
              <a:t>amenazas</a:t>
            </a:r>
            <a:r>
              <a:rPr b="0" lang="es-E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ben sortearse </a:t>
            </a: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o evitar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89" name="6 CuadroTexto"/>
          <p:cNvSpPr/>
          <p:nvPr/>
        </p:nvSpPr>
        <p:spPr>
          <a:xfrm>
            <a:off x="1332000" y="40464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nálisis de Fortalezas, Oportunidades, Debilidades y Amenazas (FO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692360" y="1268280"/>
          <a:ext cx="5975280" cy="3627720"/>
        </p:xfrm>
        <a:graphic>
          <a:graphicData uri="http://schemas.openxmlformats.org/drawingml/2006/table">
            <a:tbl>
              <a:tblPr/>
              <a:tblGrid>
                <a:gridCol w="2987640"/>
                <a:gridCol w="298764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 INTERN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rol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ACTORES EXTERN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 Controlab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TALEZA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ORTUNIDAD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+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BILIDAD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ENAZ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-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0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1224000" y="5029200"/>
          <a:ext cx="6624720" cy="1279440"/>
        </p:xfrm>
        <a:graphic>
          <a:graphicData uri="http://schemas.openxmlformats.org/drawingml/2006/table">
            <a:tbl>
              <a:tblPr/>
              <a:tblGrid>
                <a:gridCol w="1638360"/>
                <a:gridCol w="2455920"/>
                <a:gridCol w="2530440"/>
              </a:tblGrid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Positiv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gativ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c000"/>
                          </a:solidFill>
                          <a:latin typeface="Arial"/>
                        </a:rPr>
                        <a:t>Exteri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Oportunidad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menaz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99ff99"/>
                          </a:solidFill>
                          <a:latin typeface="Arial"/>
                        </a:rPr>
                        <a:t>Interior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Fortaleza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bilidade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10"/>
            </a:gs>
            <a:gs pos="100000">
              <a:srgbClr val="66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7" descr="logo unam fondo NEGRO"/>
          <p:cNvPicPr/>
          <p:nvPr/>
        </p:nvPicPr>
        <p:blipFill>
          <a:blip r:embed="rId1"/>
          <a:srcRect l="22920" t="12215" r="27718" b="16667"/>
          <a:stretch/>
        </p:blipFill>
        <p:spPr>
          <a:xfrm>
            <a:off x="214200" y="82440"/>
            <a:ext cx="1071720" cy="11667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" descr="logo nuevo de ingenieria 2009 fondo NEGRO"/>
          <p:cNvPicPr/>
          <p:nvPr/>
        </p:nvPicPr>
        <p:blipFill>
          <a:blip r:embed="rId2"/>
          <a:srcRect l="23336" t="5547" r="22709" b="7771"/>
          <a:stretch/>
        </p:blipFill>
        <p:spPr>
          <a:xfrm>
            <a:off x="7981920" y="82440"/>
            <a:ext cx="1085760" cy="1193760"/>
          </a:xfrm>
          <a:prstGeom prst="rect">
            <a:avLst/>
          </a:prstGeom>
          <a:ln w="0">
            <a:noFill/>
          </a:ln>
        </p:spPr>
      </p:pic>
      <p:sp>
        <p:nvSpPr>
          <p:cNvPr id="96" name="6 CuadroTexto"/>
          <p:cNvSpPr/>
          <p:nvPr/>
        </p:nvSpPr>
        <p:spPr>
          <a:xfrm>
            <a:off x="1332000" y="404640"/>
            <a:ext cx="662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</a:rPr>
              <a:t>Análisis de Fortalezas, Oportunidades, Debilidades y Amenazas (FOD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762120" y="6445080"/>
            <a:ext cx="7772400" cy="15264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1670040" y="1136520"/>
            <a:ext cx="5973840" cy="10656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433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826920" y="1698480"/>
          <a:ext cx="7417080" cy="4178520"/>
        </p:xfrm>
        <a:graphic>
          <a:graphicData uri="http://schemas.openxmlformats.org/drawingml/2006/table">
            <a:tbl>
              <a:tblPr/>
              <a:tblGrid>
                <a:gridCol w="3708720"/>
                <a:gridCol w="3708360"/>
              </a:tblGrid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Fortaleza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Oportunidad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58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Valoro mucho de mi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is puntos fuertes me sirven para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Debilidad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6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Amenaza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156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Reconozco que debería mejorar e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700" spc="-1" strike="noStrike">
                          <a:solidFill>
                            <a:srgbClr val="ffffff"/>
                          </a:solidFill>
                          <a:latin typeface="Corbel"/>
                        </a:rPr>
                        <a:t>Mis puntos débiles pueden llevarme a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7T13:35:21Z</dcterms:created>
  <dc:creator>LIC. CLAUDIA LORETO MIRANDA</dc:creator>
  <dc:description/>
  <dc:language>en-US</dc:language>
  <cp:lastModifiedBy>José de Jesús Huezo</cp:lastModifiedBy>
  <dcterms:modified xsi:type="dcterms:W3CDTF">2011-07-25T05:54:52Z</dcterms:modified>
  <cp:revision>134</cp:revision>
  <dc:subject/>
  <dc:title>Diapositiva 1</dc:title>
</cp:coreProperties>
</file>