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.jpeg" ContentType="image/jpeg"/>
  <Override PartName="/ppt/media/image4.wmf" ContentType="image/x-wmf"/>
  <Override PartName="/ppt/media/image2.jpeg" ContentType="image/jpeg"/>
  <Override PartName="/ppt/media/image5.jpeg" ContentType="image/jpeg"/>
  <Override PartName="/ppt/media/image11.gif" ContentType="image/gif"/>
  <Override PartName="/ppt/media/image14.png" ContentType="image/png"/>
  <Override PartName="/ppt/media/image10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3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62D-6BD7-4488-8D99-144D4BF0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56C-0843-4F10-9DAB-A44DDFBE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881-B9F9-451C-B9E8-98AF8F2F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7A3-3409-4F9D-ACCB-4997FA28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14E-CC1A-43A5-A5B6-28F95AF5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F57-BA49-43E3-9A99-59C5BA18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7AB-9F0B-4ACC-8BD5-4991CDD3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821-16E4-4023-A7FF-0BAB72CB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13D-4578-473A-BB4B-A1C90C1A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886-97BC-4D4E-9FD2-24E1FDB3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236-807B-4272-B312-A7B289C6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AE9-B959-4ACE-9A9E-5CEC8578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9D04-907F-49C0-A79D-73D30AB2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../disco%206/VIDEOS/BURROSacudete.pps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2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43" name="6 CuadroTexto"/>
          <p:cNvSpPr/>
          <p:nvPr/>
        </p:nvSpPr>
        <p:spPr>
          <a:xfrm>
            <a:off x="0" y="449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4360" y="1628640"/>
            <a:ext cx="770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http://www.ingenieria.unam.mx/imagenes/foto_Infra.jpg"/>
          <p:cNvPicPr/>
          <p:nvPr/>
        </p:nvPicPr>
        <p:blipFill>
          <a:blip r:embed="rId3"/>
          <a:stretch/>
        </p:blipFill>
        <p:spPr>
          <a:xfrm>
            <a:off x="1258920" y="2276640"/>
            <a:ext cx="6921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03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acterísticas del 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826920" y="1922400"/>
            <a:ext cx="7632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7.- El tutor integrará un expediente por estudi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8.- Cada División contará con un Coordinador, enlace entre la COPADI y los tutores de cada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9.- Se organizarán reuniones entre los tutores, coordinadores de tutoría y la COPA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09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1 CuadroTexto"/>
          <p:cNvSpPr/>
          <p:nvPr/>
        </p:nvSpPr>
        <p:spPr>
          <a:xfrm>
            <a:off x="684360" y="1628640"/>
            <a:ext cx="77752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ZapfHumnst BT"/>
              </a:rPr>
              <a:t>2ª sesión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ZapfHumnst BT"/>
              </a:rPr>
              <a:t>La UNAM y la FI como espacios de desarrollo profesional y human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15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1 CuadroTexto"/>
          <p:cNvSpPr/>
          <p:nvPr/>
        </p:nvSpPr>
        <p:spPr>
          <a:xfrm>
            <a:off x="684360" y="1628640"/>
            <a:ext cx="77752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ZapfHumnst BT"/>
              </a:rPr>
              <a:t>3ª sesión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ZapfHumnst BT"/>
              </a:rPr>
              <a:t>Diagnóstico de la situación académica del estudi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1 CuadroTexto"/>
          <p:cNvSpPr/>
          <p:nvPr/>
        </p:nvSpPr>
        <p:spPr>
          <a:xfrm>
            <a:off x="684360" y="1628640"/>
            <a:ext cx="7775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ZapfHumnst BT"/>
              </a:rPr>
              <a:t>4ª sesión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ZapfHumnst BT"/>
              </a:rPr>
              <a:t>Análisis F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27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1 CuadroTexto"/>
          <p:cNvSpPr/>
          <p:nvPr/>
        </p:nvSpPr>
        <p:spPr>
          <a:xfrm>
            <a:off x="684360" y="1628640"/>
            <a:ext cx="7775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ZapfHumnst BT"/>
              </a:rPr>
              <a:t>5ª sesión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ZapfHumnst BT"/>
              </a:rPr>
              <a:t>El estudio como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33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1 CuadroTexto"/>
          <p:cNvSpPr/>
          <p:nvPr/>
        </p:nvSpPr>
        <p:spPr>
          <a:xfrm>
            <a:off x="684360" y="1628640"/>
            <a:ext cx="77752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ZapfHumnst BT"/>
              </a:rPr>
              <a:t>6ª sesión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ZapfHumnst BT"/>
              </a:rPr>
              <a:t>La organización para el estudio y el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39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1 CuadroTexto"/>
          <p:cNvSpPr/>
          <p:nvPr/>
        </p:nvSpPr>
        <p:spPr>
          <a:xfrm>
            <a:off x="684360" y="1628640"/>
            <a:ext cx="77752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ZapfHumnst BT"/>
              </a:rPr>
              <a:t>7ª sesión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ZapfHumnst BT"/>
              </a:rPr>
              <a:t>La formación profesional del Ingen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45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1 CuadroTexto"/>
          <p:cNvSpPr/>
          <p:nvPr/>
        </p:nvSpPr>
        <p:spPr>
          <a:xfrm>
            <a:off x="684360" y="1628640"/>
            <a:ext cx="77752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ZapfHumnst BT"/>
              </a:rPr>
              <a:t>8ª sesión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ZapfHumnst BT"/>
              </a:rPr>
              <a:t>Análisis del plan y programas de estudio de la carr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51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539640" y="1365840"/>
            <a:ext cx="79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ecturas recomend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- COMPRENDER LA VIDA Alfred Adler Ed, Pa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- EL HOMBRE EN BUSCA DE SENTIDO Viktor E. Frankl Ed. He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.- MARTES CON MI VIEJO PROFESOR Una lección de vida, de la muerte y del amor. Mitch Albom Ed. Océ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- CARTAS A UN JOVEN INGENIERO Javier Jiménez Espriú Ed. Alfagu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57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900000" y="1844640"/>
            <a:ext cx="74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OMPROMI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Obligación contraída, palabra dad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Vista Previa de la imagen"/>
          <p:cNvPicPr/>
          <p:nvPr/>
        </p:nvPicPr>
        <p:blipFill>
          <a:blip r:embed="rId3"/>
          <a:stretch/>
        </p:blipFill>
        <p:spPr>
          <a:xfrm>
            <a:off x="3132000" y="3645000"/>
            <a:ext cx="51850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50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1 CuadroTexto"/>
          <p:cNvSpPr/>
          <p:nvPr/>
        </p:nvSpPr>
        <p:spPr>
          <a:xfrm>
            <a:off x="684360" y="1628640"/>
            <a:ext cx="77752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ZapfHumnst BT"/>
              </a:rPr>
              <a:t>1ª sesión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ZapfHumnst BT"/>
              </a:rPr>
              <a:t>Presentación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ZapfHumnst BT"/>
              </a:rPr>
              <a:t>Programa de Tuto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64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>
            <a:hlinkClick r:id="rId3"/>
          </p:cNvPr>
          <p:cNvSpPr/>
          <p:nvPr/>
        </p:nvSpPr>
        <p:spPr>
          <a:xfrm>
            <a:off x="900000" y="2349360"/>
            <a:ext cx="73440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ara finaliz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Una anécdot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70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755640" y="2852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¡¡¡¡¡Sacúdete!!!!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5940360" y="3933720"/>
            <a:ext cx="22338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77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838080" y="1844640"/>
            <a:ext cx="7550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n día, el burro de un campesino se cayó en un pozo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 animal rebuznó fuertemente por horas, mientras el campesino trataba de sacarlo sin éxito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3"/>
          <a:stretch/>
        </p:blipFill>
        <p:spPr>
          <a:xfrm>
            <a:off x="5867280" y="3716280"/>
            <a:ext cx="27702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84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755640" y="191628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nalmente el campesino decidió que el animal ya estaba viejo, el pozo estaba seco, y necesitaba ser tapado de todas formas y que realmente no valía la pena sacar el bur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90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826920" y="1557360"/>
            <a:ext cx="78505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uego, para la sorpresa de todos, se tranquiliz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spués de unas cuantas paladas de tierra, el campesino finalmente miró al fondo del pozo y se sorprendió de lo que vio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n cada palada de tierra el burro estaba haciendo algo increíble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96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826920" y="1628640"/>
            <a:ext cx="74170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 sacudía la tierra y daba un paso ha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rriba..... mientras los vecinos seguían echando tierra encima del animal, él se sacudía y daba un paso hacia arri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5796000" y="3573360"/>
            <a:ext cx="1781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203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155736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nto todo el mundo vio sorprendido como el burro llegó hasta la boca del pozo, pasó por encima del borde y salió trotando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4876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210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684360" y="1557360"/>
            <a:ext cx="817236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 vida va a tirarte tierra, todo tipo de tierra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 truco para salirse del pozo es sacudirse esa tierra y dar un paso hacia arri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ada uno de nuest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oblemas es un esca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acia arr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5867280" y="3573360"/>
            <a:ext cx="21211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56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1 CuadroTexto"/>
          <p:cNvSpPr/>
          <p:nvPr/>
        </p:nvSpPr>
        <p:spPr>
          <a:xfrm>
            <a:off x="684360" y="206064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ZapfHumnst BT"/>
              </a:rPr>
              <a:t>Objetivo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ZapfHumnst BT"/>
              </a:rPr>
              <a:t>¿Qué es la tutorí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62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00000" y="1628640"/>
            <a:ext cx="73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Un servicio de orientación y apoyo con el que podrán contar durante su proceso de formación escolar y profesional en la F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j0301252"/>
          <p:cNvPicPr/>
          <p:nvPr/>
        </p:nvPicPr>
        <p:blipFill>
          <a:blip r:embed="rId3"/>
          <a:stretch/>
        </p:blipFill>
        <p:spPr>
          <a:xfrm>
            <a:off x="5076720" y="3284640"/>
            <a:ext cx="343692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69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55640" y="155736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vorecerá su desempeño académ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Vista Previa de la imagen"/>
          <p:cNvPicPr/>
          <p:nvPr/>
        </p:nvPicPr>
        <p:blipFill>
          <a:blip r:embed="rId3"/>
          <a:stretch/>
        </p:blipFill>
        <p:spPr>
          <a:xfrm>
            <a:off x="3419640" y="2421000"/>
            <a:ext cx="48862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76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5640" y="148428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ubicación de sus derechos y responsabilidades como estudi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logolegislacion01"/>
          <p:cNvPicPr/>
          <p:nvPr/>
        </p:nvPicPr>
        <p:blipFill>
          <a:blip r:embed="rId3"/>
          <a:stretch/>
        </p:blipFill>
        <p:spPr>
          <a:xfrm>
            <a:off x="1547640" y="4365720"/>
            <a:ext cx="5328000" cy="133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Vista Previa de la imagen"/>
          <p:cNvPicPr/>
          <p:nvPr/>
        </p:nvPicPr>
        <p:blipFill>
          <a:blip r:embed="rId4"/>
          <a:stretch/>
        </p:blipFill>
        <p:spPr>
          <a:xfrm>
            <a:off x="7035840" y="3828960"/>
            <a:ext cx="1712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84" name="6 CuadroTexto"/>
          <p:cNvSpPr/>
          <p:nvPr/>
        </p:nvSpPr>
        <p:spPr>
          <a:xfrm>
            <a:off x="0" y="449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>
            <a:hlinkClick r:id="rId3" action="ppaction://hlinksldjump"/>
          </p:cNvPr>
          <p:cNvSpPr/>
          <p:nvPr/>
        </p:nvSpPr>
        <p:spPr>
          <a:xfrm>
            <a:off x="826920" y="148428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estructuración de un plan de trabajo para el estudio y el aprendiza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Vista Previa de la imagen"/>
          <p:cNvPicPr/>
          <p:nvPr/>
        </p:nvPicPr>
        <p:blipFill>
          <a:blip r:embed="rId4"/>
          <a:stretch/>
        </p:blipFill>
        <p:spPr>
          <a:xfrm>
            <a:off x="3348000" y="2852640"/>
            <a:ext cx="50356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91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acterísticas del 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26920" y="1700280"/>
            <a:ext cx="73454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1.- Se ofrecerá a los estudiantes de licenciatura en pequeños grupos de una misma carr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.- Se asignará tutor a todos los estudiantes de primer ingreso, anexando en su tira de materias la información relativa al horario y sal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3.- Las reuniones serán de una hora cada se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acterísticas del programa de tu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1413000"/>
            <a:ext cx="74170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4.- Los tutores son profesores de carrera y atenderán a los estudiantes durante toda la carr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5.- Se pondrá a disposición de los estudiantes a lo largo de su carrera y no tendrá valor curr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6.- Será coordinado por la Coordinación de Programas de Atención Diferenciada para Alumnos COPADI, dependiente de la Secretaría de Apoyo a la Docenci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3:35:21Z</dcterms:created>
  <dc:creator>LIC. CLAUDIA LORETO MIRANDA</dc:creator>
  <dc:description/>
  <dc:language>en-US</dc:language>
  <cp:lastModifiedBy>José de Jesús Huezo</cp:lastModifiedBy>
  <dcterms:modified xsi:type="dcterms:W3CDTF">2011-07-25T05:08:05Z</dcterms:modified>
  <cp:revision>92</cp:revision>
  <dc:subject/>
  <dc:title>Diapositiva 1</dc:title>
</cp:coreProperties>
</file>