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20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834-284B-47A4-9EC7-132274E0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0F3-3EAA-481B-A0C5-07E1A860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7EC-E61C-480C-B933-983692F9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228-ED47-468F-BF54-829C143F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F80-91A9-4EB5-AEA4-E7B682E7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396-2F66-491F-B523-BBCB7DFA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B20-B142-4EF3-B340-27F08073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A12-DD64-4677-AE86-14B76C2D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F1D-CCB4-48A9-BEF5-1F4FC710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75F-D1C8-4516-867B-BADD4DE1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79B-912A-4F76-BD10-1183ED1B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F34-56AE-4E99-A3E1-B5AE4879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844C-7104-41EE-A8B5-8EC433E78F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43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68360" y="1413000"/>
            <a:ext cx="7272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Arial"/>
              </a:rPr>
              <a:t>Programa de tuto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Arial"/>
              </a:rPr>
              <a:t>Quinta s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El estudio como un siste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000"/>
                </a:solidFill>
                <a:latin typeface="Arial"/>
              </a:rPr>
              <a:t>Facilit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000"/>
                </a:solidFill>
                <a:latin typeface="Arial"/>
              </a:rPr>
              <a:t>Car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000"/>
                </a:solidFill>
                <a:latin typeface="Arial"/>
              </a:rPr>
              <a:t>Gab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000"/>
                </a:solidFill>
                <a:latin typeface="Arial"/>
              </a:rPr>
              <a:t>Ví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36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Título"/>
          <p:cNvSpPr/>
          <p:nvPr/>
        </p:nvSpPr>
        <p:spPr>
          <a:xfrm>
            <a:off x="685800" y="272880"/>
            <a:ext cx="777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xo 1 Diagrama del alcance del  coordinador de carr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2 Diagrama" descr=""/>
          <p:cNvPicPr/>
          <p:nvPr/>
        </p:nvPicPr>
        <p:blipFill>
          <a:blip r:embed="rId3"/>
          <a:stretch/>
        </p:blipFill>
        <p:spPr>
          <a:xfrm>
            <a:off x="1170000" y="1620720"/>
            <a:ext cx="6132600" cy="4078440"/>
          </a:xfrm>
          <a:prstGeom prst="rect">
            <a:avLst/>
          </a:prstGeom>
          <a:ln w="0">
            <a:noFill/>
          </a:ln>
        </p:spPr>
      </p:pic>
      <p:pic>
        <p:nvPicPr>
          <p:cNvPr id="141" name="1 Imagen" descr=""/>
          <p:cNvPicPr/>
          <p:nvPr/>
        </p:nvPicPr>
        <p:blipFill>
          <a:blip r:embed="rId4"/>
          <a:stretch/>
        </p:blipFill>
        <p:spPr>
          <a:xfrm>
            <a:off x="2075040" y="4332240"/>
            <a:ext cx="2400120" cy="1905120"/>
          </a:xfrm>
          <a:prstGeom prst="rect">
            <a:avLst/>
          </a:prstGeom>
          <a:ln w="0">
            <a:noFill/>
          </a:ln>
        </p:spPr>
      </p:pic>
      <p:sp>
        <p:nvSpPr>
          <p:cNvPr id="142" name="10 Flecha derecha"/>
          <p:cNvSpPr/>
          <p:nvPr/>
        </p:nvSpPr>
        <p:spPr>
          <a:xfrm>
            <a:off x="2498760" y="3389400"/>
            <a:ext cx="306360" cy="504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1 Flecha derecha"/>
          <p:cNvSpPr/>
          <p:nvPr/>
        </p:nvSpPr>
        <p:spPr>
          <a:xfrm>
            <a:off x="4043520" y="3395520"/>
            <a:ext cx="307800" cy="505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2 CuadroTexto"/>
          <p:cNvSpPr/>
          <p:nvPr/>
        </p:nvSpPr>
        <p:spPr>
          <a:xfrm>
            <a:off x="5345280" y="1733400"/>
            <a:ext cx="3043080" cy="8254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LEMENTO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47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 Marcador de contenido"/>
          <p:cNvSpPr/>
          <p:nvPr/>
        </p:nvSpPr>
        <p:spPr>
          <a:xfrm>
            <a:off x="304920" y="1285920"/>
            <a:ext cx="868680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Reflex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¿Cual es mi estilo para estudiar, aprender, resolver proble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¿Cuál han sido los resultados de mi forma de estudiar hasta el mom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¿Que relación existe entre el estudio y el aprendizaje? (¿qué es primero, el huevo o la gallina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53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8 Rectángulo"/>
          <p:cNvGrpSpPr/>
          <p:nvPr/>
        </p:nvGrpSpPr>
        <p:grpSpPr>
          <a:xfrm>
            <a:off x="341280" y="2955960"/>
            <a:ext cx="2687760" cy="1560600"/>
            <a:chOff x="341280" y="2955960"/>
            <a:chExt cx="2687760" cy="1560600"/>
          </a:xfrm>
        </p:grpSpPr>
        <p:pic>
          <p:nvPicPr>
            <p:cNvPr id="157" name="8 Rectángulo" descr=""/>
            <p:cNvPicPr/>
            <p:nvPr/>
          </p:nvPicPr>
          <p:blipFill>
            <a:blip r:embed="rId3"/>
            <a:stretch/>
          </p:blipFill>
          <p:spPr>
            <a:xfrm>
              <a:off x="341280" y="2955960"/>
              <a:ext cx="268776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39640" y="2997360"/>
              <a:ext cx="230364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99ff99"/>
                  </a:solidFill>
                  <a:latin typeface="Arial"/>
                </a:rPr>
                <a:t>ESTUDI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9 Rectángulo"/>
          <p:cNvGrpSpPr/>
          <p:nvPr/>
        </p:nvGrpSpPr>
        <p:grpSpPr>
          <a:xfrm>
            <a:off x="5010120" y="2955960"/>
            <a:ext cx="3871800" cy="1560600"/>
            <a:chOff x="5010120" y="2955960"/>
            <a:chExt cx="3871800" cy="1560600"/>
          </a:xfrm>
        </p:grpSpPr>
        <p:pic>
          <p:nvPicPr>
            <p:cNvPr id="160" name="9 Rectángulo" descr=""/>
            <p:cNvPicPr/>
            <p:nvPr/>
          </p:nvPicPr>
          <p:blipFill>
            <a:blip r:embed="rId4"/>
            <a:stretch/>
          </p:blipFill>
          <p:spPr>
            <a:xfrm>
              <a:off x="5010120" y="2955960"/>
              <a:ext cx="387180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219640" y="2997360"/>
              <a:ext cx="345600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99ff99"/>
                  </a:solidFill>
                  <a:latin typeface="Arial"/>
                </a:rPr>
                <a:t>APRENDIZAJ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10 Flecha derecha"/>
          <p:cNvGrpSpPr/>
          <p:nvPr/>
        </p:nvGrpSpPr>
        <p:grpSpPr>
          <a:xfrm>
            <a:off x="3213000" y="3322800"/>
            <a:ext cx="1627200" cy="828360"/>
            <a:chOff x="3213000" y="3322800"/>
            <a:chExt cx="1627200" cy="828360"/>
          </a:xfrm>
        </p:grpSpPr>
        <p:pic>
          <p:nvPicPr>
            <p:cNvPr id="163" name="10 Flecha derecha" descr=""/>
            <p:cNvPicPr/>
            <p:nvPr/>
          </p:nvPicPr>
          <p:blipFill>
            <a:blip r:embed="rId5"/>
            <a:stretch/>
          </p:blipFill>
          <p:spPr>
            <a:xfrm>
              <a:off x="3213000" y="3322800"/>
              <a:ext cx="162720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276720" y="3537000"/>
              <a:ext cx="1331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11 CuadroTexto"/>
          <p:cNvSpPr/>
          <p:nvPr/>
        </p:nvSpPr>
        <p:spPr>
          <a:xfrm>
            <a:off x="971640" y="19591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CA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2 CuadroTexto"/>
          <p:cNvSpPr/>
          <p:nvPr/>
        </p:nvSpPr>
        <p:spPr>
          <a:xfrm>
            <a:off x="6084720" y="1989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F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69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547640" y="1197000"/>
            <a:ext cx="5973840" cy="106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2 Diagrama" descr=""/>
          <p:cNvPicPr/>
          <p:nvPr/>
        </p:nvPicPr>
        <p:blipFill>
          <a:blip r:embed="rId3"/>
          <a:stretch/>
        </p:blipFill>
        <p:spPr>
          <a:xfrm>
            <a:off x="1517760" y="1798560"/>
            <a:ext cx="61084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75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2 Marcador de contenido"/>
          <p:cNvSpPr/>
          <p:nvPr/>
        </p:nvSpPr>
        <p:spPr>
          <a:xfrm>
            <a:off x="304920" y="1285920"/>
            <a:ext cx="8686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INSTRU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Marca con una “paloma la respuesta (si o no) basándote en tu primer re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39640" y="2060640"/>
          <a:ext cx="8136000" cy="4227480"/>
        </p:xfrm>
        <a:graphic>
          <a:graphicData uri="http://schemas.openxmlformats.org/drawingml/2006/table">
            <a:tbl>
              <a:tblPr/>
              <a:tblGrid>
                <a:gridCol w="6247080"/>
                <a:gridCol w="768240"/>
                <a:gridCol w="577800"/>
                <a:gridCol w="5428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Te es fácil conocer nuevas personas y hacer amig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Eres precavido y razonab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Te aburres fácilmen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Eres práctico, del tipo de persona que pone “manos a la obra”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Te gusta probar las cosas por 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Tus amigos te consideran como una persona que sabe escuchar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Mantienes una lista de cosas por hacer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Te gusta experimentar hasta encontrar la mejor forma de hacer las cosa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Prefieres analizar las cosas de manera lógic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Te gusta concentrarte en una cosa a un tiemp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La gente piensa que a veces eres tímido y callad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82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2179800"/>
          <a:ext cx="8136000" cy="3336840"/>
        </p:xfrm>
        <a:graphic>
          <a:graphicData uri="http://schemas.openxmlformats.org/drawingml/2006/table">
            <a:tbl>
              <a:tblPr/>
              <a:tblGrid>
                <a:gridCol w="6245280"/>
                <a:gridCol w="769680"/>
                <a:gridCol w="576360"/>
                <a:gridCol w="54468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Eres un poco perfeccionist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Eres entusiasta acerca de la vid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Frecuentemente notas cosas que otra gente n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Actúas primero y piensas sobre las consecuencias despué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Te gusta tener !”todo en su lugar”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Eres de los que formula muchas pregunta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Prefieres analizar las cosas antes de involucrar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Disfrutas probar cosas nueva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Te gusta el desafío de tener un problema que resolver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88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7 Marcador de contenido"/>
          <p:cNvSpPr/>
          <p:nvPr/>
        </p:nvSpPr>
        <p:spPr>
          <a:xfrm>
            <a:off x="826920" y="1268280"/>
            <a:ext cx="7632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66"/>
                </a:solidFill>
                <a:latin typeface="Arial"/>
              </a:rPr>
              <a:t>Cada ocurrencia pertenece a un estilo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11 Imagen" descr=""/>
          <p:cNvPicPr/>
          <p:nvPr/>
        </p:nvPicPr>
        <p:blipFill>
          <a:blip r:embed="rId3"/>
          <a:srcRect l="74811" t="8353" r="0" b="20991"/>
          <a:stretch/>
        </p:blipFill>
        <p:spPr>
          <a:xfrm>
            <a:off x="2556000" y="4076640"/>
            <a:ext cx="2098440" cy="1676520"/>
          </a:xfrm>
          <a:prstGeom prst="rect">
            <a:avLst/>
          </a:prstGeom>
          <a:ln w="0">
            <a:noFill/>
          </a:ln>
        </p:spPr>
      </p:pic>
      <p:pic>
        <p:nvPicPr>
          <p:cNvPr id="193" name="12 Imagen" descr=""/>
          <p:cNvPicPr/>
          <p:nvPr/>
        </p:nvPicPr>
        <p:blipFill>
          <a:blip r:embed="rId4"/>
          <a:srcRect l="50404" t="8996" r="25922" b="22249"/>
          <a:stretch/>
        </p:blipFill>
        <p:spPr>
          <a:xfrm>
            <a:off x="4859280" y="2205000"/>
            <a:ext cx="1978200" cy="1630440"/>
          </a:xfrm>
          <a:prstGeom prst="rect">
            <a:avLst/>
          </a:prstGeom>
          <a:ln w="0">
            <a:noFill/>
          </a:ln>
        </p:spPr>
      </p:pic>
      <p:pic>
        <p:nvPicPr>
          <p:cNvPr id="194" name="13 Imagen" descr=""/>
          <p:cNvPicPr/>
          <p:nvPr/>
        </p:nvPicPr>
        <p:blipFill>
          <a:blip r:embed="rId5"/>
          <a:srcRect l="24601" t="8969" r="50391" b="20509"/>
          <a:stretch/>
        </p:blipFill>
        <p:spPr>
          <a:xfrm>
            <a:off x="755640" y="2205000"/>
            <a:ext cx="2098800" cy="1676520"/>
          </a:xfrm>
          <a:prstGeom prst="rect">
            <a:avLst/>
          </a:prstGeom>
          <a:ln w="0">
            <a:noFill/>
          </a:ln>
        </p:spPr>
      </p:pic>
      <p:pic>
        <p:nvPicPr>
          <p:cNvPr id="195" name="14 Imagen" descr=""/>
          <p:cNvPicPr/>
          <p:nvPr/>
        </p:nvPicPr>
        <p:blipFill>
          <a:blip r:embed="rId6"/>
          <a:srcRect l="0" t="8969" r="75399" b="21151"/>
          <a:stretch/>
        </p:blipFill>
        <p:spPr>
          <a:xfrm>
            <a:off x="6300720" y="4076640"/>
            <a:ext cx="208296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98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2 Marcador de contenido"/>
          <p:cNvSpPr/>
          <p:nvPr/>
        </p:nvSpPr>
        <p:spPr>
          <a:xfrm>
            <a:off x="755640" y="1341360"/>
            <a:ext cx="75614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buClr>
                <a:srgbClr val="ffff66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66"/>
                </a:solidFill>
                <a:latin typeface="Arial"/>
              </a:rPr>
              <a:t>Activistas – Ha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66"/>
                </a:solidFill>
                <a:latin typeface="Arial"/>
              </a:rPr>
              <a:t> 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e involucran completamente y sin tendencias hacia nuevas experiencias. Disfrutan el aquí y el ahora, realizan varias actividades a la v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ffff66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66"/>
                </a:solidFill>
                <a:latin typeface="Arial"/>
              </a:rPr>
              <a:t>Reflectores – Revi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66"/>
                </a:solidFill>
                <a:latin typeface="Arial"/>
              </a:rPr>
              <a:t> 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es gusta detenerse, ponderar experiencias y observarlas desde muchas perspectivas. Obtienen información de primera mano y de otros y prefieren analizar las cosas antes de llegar a cualquier conclus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ffff66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ffff66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204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 Marcador de contenido"/>
          <p:cNvSpPr/>
          <p:nvPr/>
        </p:nvSpPr>
        <p:spPr>
          <a:xfrm>
            <a:off x="826920" y="1341360"/>
            <a:ext cx="75614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66"/>
                </a:solidFill>
                <a:latin typeface="Arial"/>
              </a:rPr>
              <a:t>Teóricos – Concluy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daptan e integran observaciones en teorías complejas pero lógicas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u análisis de los problemas es paso a paso y de manera lóg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66"/>
                </a:solidFill>
                <a:latin typeface="Arial"/>
              </a:rPr>
              <a:t>Pragmáticos- Plan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es gusta siempre probar ideas, teorías y técnicas para ver si funcionan en la practica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Buscan positivamente nuevas ideas y toman la primer oportunidad para experimentar con apl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e impacientan con discusiones sin 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210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 Marcador de contenido"/>
          <p:cNvSpPr/>
          <p:nvPr/>
        </p:nvSpPr>
        <p:spPr>
          <a:xfrm>
            <a:off x="755640" y="1989000"/>
            <a:ext cx="721044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PREGU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COM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9280" y="1628640"/>
            <a:ext cx="6480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paso de las sesiones a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8 CuadroTexto"/>
          <p:cNvSpPr/>
          <p:nvPr/>
        </p:nvSpPr>
        <p:spPr>
          <a:xfrm>
            <a:off x="5796000" y="306864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xa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9 CuadroTexto"/>
          <p:cNvSpPr/>
          <p:nvPr/>
        </p:nvSpPr>
        <p:spPr>
          <a:xfrm>
            <a:off x="7667640" y="263700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Análi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F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1 CuadroTexto"/>
          <p:cNvSpPr/>
          <p:nvPr/>
        </p:nvSpPr>
        <p:spPr>
          <a:xfrm>
            <a:off x="360360" y="420228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TU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2 Flecha curvada hacia abajo"/>
          <p:cNvSpPr/>
          <p:nvPr/>
        </p:nvSpPr>
        <p:spPr>
          <a:xfrm rot="20529000">
            <a:off x="1147320" y="3168720"/>
            <a:ext cx="1665360" cy="460440"/>
          </a:xfrm>
          <a:custGeom>
            <a:avLst/>
            <a:gdLst>
              <a:gd name="textAreaLeft" fmla="*/ 376560 w 1665360"/>
              <a:gd name="textAreaRight" fmla="*/ 1216440 w 1665360"/>
              <a:gd name="textAreaTop" fmla="*/ 61560 h 460440"/>
              <a:gd name="textAreaBottom" fmla="*/ 39888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75" hR="21600" stAng="10800000" swAng="5400000"/>
                <a:lnTo>
                  <a:pt x="10890" y="0"/>
                </a:lnTo>
                <a:arcTo wR="9775" hR="21600" stAng="-5400000" swAng="1398176"/>
                <a:lnTo>
                  <a:pt x="18564" y="5954"/>
                </a:lnTo>
                <a:lnTo>
                  <a:pt x="20108" y="21600"/>
                </a:lnTo>
                <a:lnTo>
                  <a:pt x="15579" y="5954"/>
                </a:lnTo>
                <a:lnTo>
                  <a:pt x="16514" y="5954"/>
                </a:lnTo>
                <a:arcTo wR="9775" hR="21600" stAng="-4001824" swAng="-1309322"/>
                <a:lnTo>
                  <a:pt x="10333" y="35"/>
                </a:lnTo>
                <a:arcTo wR="9775" hR="21600" stAng="-5488854" swAng="-5311146"/>
                <a:close/>
              </a:path>
              <a:path fill="darkenLess" w="21600" h="21600">
                <a:moveTo>
                  <a:pt x="0" y="21600"/>
                </a:moveTo>
                <a:arcTo wR="9775" hR="21600" stAng="10800000" swAng="5400000"/>
                <a:lnTo>
                  <a:pt x="9775" y="0"/>
                </a:lnTo>
                <a:arcTo wR="9775" hR="21600" stAng="-5400000" swAng="88854"/>
                <a:lnTo>
                  <a:pt x="10333" y="35"/>
                </a:lnTo>
                <a:arcTo wR="9775" hR="21600" stAng="-5488854" swAng="-5311146"/>
                <a:close/>
              </a:path>
            </a:pathLst>
          </a:custGeom>
          <a:solidFill>
            <a:srgbClr val="cdff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3 Flecha curvada hacia abajo"/>
          <p:cNvSpPr/>
          <p:nvPr/>
        </p:nvSpPr>
        <p:spPr>
          <a:xfrm rot="20899800">
            <a:off x="4430880" y="2901960"/>
            <a:ext cx="1684080" cy="579600"/>
          </a:xfrm>
          <a:custGeom>
            <a:avLst/>
            <a:gdLst>
              <a:gd name="textAreaLeft" fmla="*/ 371160 w 1684080"/>
              <a:gd name="textAreaRight" fmla="*/ 1222200 w 1684080"/>
              <a:gd name="textAreaTop" fmla="*/ 77400 h 579600"/>
              <a:gd name="textAreaBottom" fmla="*/ 502200 h 579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24" hR="21600" stAng="10800000" swAng="5400000"/>
                <a:lnTo>
                  <a:pt x="10913" y="0"/>
                </a:lnTo>
                <a:arcTo wR="9524" hR="21600" stAng="-5400000" swAng="1365976"/>
                <a:lnTo>
                  <a:pt x="18642" y="5954"/>
                </a:lnTo>
                <a:lnTo>
                  <a:pt x="19743" y="21600"/>
                </a:lnTo>
                <a:lnTo>
                  <a:pt x="14927" y="5954"/>
                </a:lnTo>
                <a:lnTo>
                  <a:pt x="16090" y="5954"/>
                </a:lnTo>
                <a:arcTo wR="9524" hR="21600" stAng="-4034024" swAng="-1255186"/>
                <a:lnTo>
                  <a:pt x="10219" y="58"/>
                </a:lnTo>
                <a:arcTo wR="9524" hR="21600" stAng="-5510790" swAng="-5289210"/>
                <a:close/>
              </a:path>
              <a:path fill="darkenLess" w="21600" h="21600">
                <a:moveTo>
                  <a:pt x="0" y="21600"/>
                </a:moveTo>
                <a:arcTo wR="9524" hR="21600" stAng="10800000" swAng="5400000"/>
                <a:lnTo>
                  <a:pt x="9524" y="0"/>
                </a:lnTo>
                <a:arcTo wR="9524" hR="21600" stAng="-5400000" swAng="110790"/>
                <a:lnTo>
                  <a:pt x="10219" y="58"/>
                </a:lnTo>
                <a:arcTo wR="9524" hR="21600" stAng="-5510790" swAng="-5289210"/>
                <a:close/>
              </a:path>
            </a:pathLst>
          </a:custGeom>
          <a:solidFill>
            <a:srgbClr val="cdff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4 Flecha curvada hacia abajo"/>
          <p:cNvSpPr/>
          <p:nvPr/>
        </p:nvSpPr>
        <p:spPr>
          <a:xfrm rot="20650800">
            <a:off x="6661080" y="2261880"/>
            <a:ext cx="1557360" cy="579240"/>
          </a:xfrm>
          <a:custGeom>
            <a:avLst/>
            <a:gdLst>
              <a:gd name="textAreaLeft" fmla="*/ 339480 w 1557360"/>
              <a:gd name="textAreaRight" fmla="*/ 1127160 w 1557360"/>
              <a:gd name="textAreaTop" fmla="*/ 77400 h 579240"/>
              <a:gd name="textAreaBottom" fmla="*/ 501840 h 579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20" hR="21600" stAng="10800000" swAng="5400000"/>
                <a:lnTo>
                  <a:pt x="10922" y="0"/>
                </a:lnTo>
                <a:arcTo wR="9420" hR="21600" stAng="-5400000" swAng="1352559"/>
                <a:lnTo>
                  <a:pt x="18674" y="5954"/>
                </a:lnTo>
                <a:lnTo>
                  <a:pt x="19591" y="21600"/>
                </a:lnTo>
                <a:lnTo>
                  <a:pt x="14656" y="5954"/>
                </a:lnTo>
                <a:lnTo>
                  <a:pt x="15914" y="5954"/>
                </a:lnTo>
                <a:arcTo wR="9420" hR="21600" stAng="-4047441" swAng="-1232701"/>
                <a:lnTo>
                  <a:pt x="10171" y="69"/>
                </a:lnTo>
                <a:arcTo wR="9420" hR="21600" stAng="-5519858" swAng="-5280142"/>
                <a:close/>
              </a:path>
              <a:path fill="darkenLess" w="21600" h="21600">
                <a:moveTo>
                  <a:pt x="0" y="21600"/>
                </a:moveTo>
                <a:arcTo wR="9420" hR="21600" stAng="10800000" swAng="5400000"/>
                <a:lnTo>
                  <a:pt x="9420" y="0"/>
                </a:lnTo>
                <a:arcTo wR="9420" hR="21600" stAng="-5400000" swAng="119858"/>
                <a:lnTo>
                  <a:pt x="10171" y="69"/>
                </a:lnTo>
                <a:arcTo wR="9420" hR="21600" stAng="-5519858" swAng="-5280142"/>
                <a:close/>
              </a:path>
            </a:pathLst>
          </a:custGeom>
          <a:solidFill>
            <a:srgbClr val="cdff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2457360" y="3716280"/>
            <a:ext cx="1603440" cy="1801800"/>
          </a:xfrm>
          <a:prstGeom prst="rect">
            <a:avLst/>
          </a:prstGeom>
          <a:ln w="0">
            <a:noFill/>
          </a:ln>
        </p:spPr>
      </p:pic>
      <p:sp>
        <p:nvSpPr>
          <p:cNvPr id="59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4"/>
          <a:stretch/>
        </p:blipFill>
        <p:spPr>
          <a:xfrm>
            <a:off x="4060800" y="3718080"/>
            <a:ext cx="15192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539640" y="1800360"/>
            <a:ext cx="79930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bjetivos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Analizar los elementos que conforman un </a:t>
            </a: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SISTEMA DE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dentificar tu estilo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entar las bases para establecer las técnicas de estudio que más se adapten a tu est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69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71640" y="1484280"/>
            <a:ext cx="7272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Arial"/>
              </a:rPr>
              <a:t>Conteni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Arial"/>
              </a:rPr>
              <a:t>Vocabul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Arial"/>
              </a:rPr>
              <a:t>Sistema de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Arial"/>
              </a:rPr>
              <a:t>Estilo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Arial"/>
              </a:rPr>
              <a:t>Ejerc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Arial"/>
              </a:rPr>
              <a:t>Preguntas y respu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75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 Título"/>
          <p:cNvSpPr/>
          <p:nvPr/>
        </p:nvSpPr>
        <p:spPr>
          <a:xfrm>
            <a:off x="685800" y="272880"/>
            <a:ext cx="777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xo 1 Diagrama del alcance del  coordinador de carr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 CuadroTexto"/>
          <p:cNvSpPr/>
          <p:nvPr/>
        </p:nvSpPr>
        <p:spPr>
          <a:xfrm>
            <a:off x="885960" y="2041560"/>
            <a:ext cx="2946240" cy="8254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¿ QUÉ ES UN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2047 Imagen" descr=""/>
          <p:cNvPicPr/>
          <p:nvPr/>
        </p:nvPicPr>
        <p:blipFill>
          <a:blip r:embed="rId3"/>
          <a:stretch/>
        </p:blipFill>
        <p:spPr>
          <a:xfrm>
            <a:off x="4211640" y="1360440"/>
            <a:ext cx="1928880" cy="2198880"/>
          </a:xfrm>
          <a:prstGeom prst="rect">
            <a:avLst/>
          </a:prstGeom>
          <a:ln w="0">
            <a:noFill/>
          </a:ln>
        </p:spPr>
      </p:pic>
      <p:pic>
        <p:nvPicPr>
          <p:cNvPr id="81" name="2048 Imagen" descr=""/>
          <p:cNvPicPr/>
          <p:nvPr/>
        </p:nvPicPr>
        <p:blipFill>
          <a:blip r:embed="rId4"/>
          <a:stretch/>
        </p:blipFill>
        <p:spPr>
          <a:xfrm>
            <a:off x="6443640" y="3514680"/>
            <a:ext cx="2455920" cy="2239920"/>
          </a:xfrm>
          <a:prstGeom prst="rect">
            <a:avLst/>
          </a:prstGeom>
          <a:ln w="0">
            <a:noFill/>
          </a:ln>
        </p:spPr>
      </p:pic>
      <p:pic>
        <p:nvPicPr>
          <p:cNvPr id="82" name="2049 Imagen" descr=""/>
          <p:cNvPicPr/>
          <p:nvPr/>
        </p:nvPicPr>
        <p:blipFill>
          <a:blip r:embed="rId5"/>
          <a:stretch/>
        </p:blipFill>
        <p:spPr>
          <a:xfrm>
            <a:off x="3324240" y="3781440"/>
            <a:ext cx="2714760" cy="1685880"/>
          </a:xfrm>
          <a:prstGeom prst="rect">
            <a:avLst/>
          </a:prstGeom>
          <a:ln w="0">
            <a:noFill/>
          </a:ln>
        </p:spPr>
      </p:pic>
      <p:sp>
        <p:nvSpPr>
          <p:cNvPr id="83" name="48 Flecha derecha"/>
          <p:cNvSpPr/>
          <p:nvPr/>
        </p:nvSpPr>
        <p:spPr>
          <a:xfrm>
            <a:off x="6097680" y="4367160"/>
            <a:ext cx="307800" cy="503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2050 Imagen" descr=""/>
          <p:cNvPicPr/>
          <p:nvPr/>
        </p:nvPicPr>
        <p:blipFill>
          <a:blip r:embed="rId6"/>
          <a:stretch/>
        </p:blipFill>
        <p:spPr>
          <a:xfrm>
            <a:off x="252360" y="3705120"/>
            <a:ext cx="2541600" cy="1905120"/>
          </a:xfrm>
          <a:prstGeom prst="rect">
            <a:avLst/>
          </a:prstGeom>
          <a:ln w="0">
            <a:noFill/>
          </a:ln>
        </p:spPr>
      </p:pic>
      <p:sp>
        <p:nvSpPr>
          <p:cNvPr id="85" name="50 Flecha derecha"/>
          <p:cNvSpPr/>
          <p:nvPr/>
        </p:nvSpPr>
        <p:spPr>
          <a:xfrm>
            <a:off x="2903400" y="4386240"/>
            <a:ext cx="308160" cy="504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1 CuadroTexto"/>
          <p:cNvSpPr/>
          <p:nvPr/>
        </p:nvSpPr>
        <p:spPr>
          <a:xfrm>
            <a:off x="461880" y="5970600"/>
            <a:ext cx="8209080" cy="3373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CONJUNTO DE ELEMENTOS QUE INTERACTÚAN ENTRE SÍ CON UNA FINAL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89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 Título"/>
          <p:cNvSpPr/>
          <p:nvPr/>
        </p:nvSpPr>
        <p:spPr>
          <a:xfrm>
            <a:off x="685800" y="272880"/>
            <a:ext cx="777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xo 1 Diagrama del alcance del  coordinador de carr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1 Grupo"/>
          <p:cNvGrpSpPr/>
          <p:nvPr/>
        </p:nvGrpSpPr>
        <p:grpSpPr>
          <a:xfrm>
            <a:off x="919080" y="1628640"/>
            <a:ext cx="7074000" cy="4206960"/>
            <a:chOff x="919080" y="1628640"/>
            <a:chExt cx="7074000" cy="4206960"/>
          </a:xfrm>
        </p:grpSpPr>
        <p:pic>
          <p:nvPicPr>
            <p:cNvPr id="94" name="2 Diagrama" descr=""/>
            <p:cNvPicPr/>
            <p:nvPr/>
          </p:nvPicPr>
          <p:blipFill>
            <a:blip r:embed="rId3"/>
            <a:stretch/>
          </p:blipFill>
          <p:spPr>
            <a:xfrm>
              <a:off x="1325880" y="1761480"/>
              <a:ext cx="6667200" cy="407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5 CuadroTexto"/>
            <p:cNvSpPr/>
            <p:nvPr/>
          </p:nvSpPr>
          <p:spPr>
            <a:xfrm>
              <a:off x="919080" y="1628640"/>
              <a:ext cx="3570120" cy="825480"/>
            </a:xfrm>
            <a:prstGeom prst="rect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00"/>
                  </a:solidFill>
                  <a:latin typeface="Arial"/>
                </a:rPr>
                <a:t>¿QUÉ ES UN SISTEMA DE ESTUDIO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6 Flecha derecha"/>
            <p:cNvSpPr/>
            <p:nvPr/>
          </p:nvSpPr>
          <p:spPr>
            <a:xfrm>
              <a:off x="3344400" y="3571200"/>
              <a:ext cx="305640" cy="5043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44 Flecha derecha"/>
            <p:cNvSpPr/>
            <p:nvPr/>
          </p:nvSpPr>
          <p:spPr>
            <a:xfrm>
              <a:off x="5634000" y="3571200"/>
              <a:ext cx="305640" cy="5043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12 CuadroTexto"/>
          <p:cNvSpPr/>
          <p:nvPr/>
        </p:nvSpPr>
        <p:spPr>
          <a:xfrm>
            <a:off x="461880" y="5661000"/>
            <a:ext cx="8209080" cy="5806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ROCESO DE ADQUIRIR CONOCIMIENTOS PARA LOGRAR UNA FORMACIÓN PROFE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01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Título"/>
          <p:cNvSpPr/>
          <p:nvPr/>
        </p:nvSpPr>
        <p:spPr>
          <a:xfrm>
            <a:off x="685800" y="272880"/>
            <a:ext cx="777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xo 1 Diagrama del alcance del  coordinador de carr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2 Diagrama" descr=""/>
          <p:cNvPicPr/>
          <p:nvPr/>
        </p:nvPicPr>
        <p:blipFill>
          <a:blip r:embed="rId3"/>
          <a:stretch/>
        </p:blipFill>
        <p:spPr>
          <a:xfrm>
            <a:off x="1504800" y="1755720"/>
            <a:ext cx="6134400" cy="4071960"/>
          </a:xfrm>
          <a:prstGeom prst="rect">
            <a:avLst/>
          </a:prstGeom>
          <a:ln w="0">
            <a:noFill/>
          </a:ln>
        </p:spPr>
      </p:pic>
      <p:sp>
        <p:nvSpPr>
          <p:cNvPr id="106" name="10 CuadroTexto"/>
          <p:cNvSpPr/>
          <p:nvPr/>
        </p:nvSpPr>
        <p:spPr>
          <a:xfrm>
            <a:off x="2438280" y="5775480"/>
            <a:ext cx="1360440" cy="4597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F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1 Flecha derecha"/>
          <p:cNvSpPr/>
          <p:nvPr/>
        </p:nvSpPr>
        <p:spPr>
          <a:xfrm>
            <a:off x="4500720" y="3514680"/>
            <a:ext cx="307800" cy="503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2 Flecha derecha"/>
          <p:cNvSpPr/>
          <p:nvPr/>
        </p:nvSpPr>
        <p:spPr>
          <a:xfrm>
            <a:off x="5986440" y="3508200"/>
            <a:ext cx="308160" cy="505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3 CuadroTexto"/>
          <p:cNvSpPr/>
          <p:nvPr/>
        </p:nvSpPr>
        <p:spPr>
          <a:xfrm>
            <a:off x="1863720" y="4103640"/>
            <a:ext cx="2506680" cy="70380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(ÚNICO E IRREPET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4 Flecha arriba y abajo"/>
          <p:cNvSpPr/>
          <p:nvPr/>
        </p:nvSpPr>
        <p:spPr>
          <a:xfrm>
            <a:off x="2882880" y="4911840"/>
            <a:ext cx="484200" cy="801720"/>
          </a:xfrm>
          <a:prstGeom prst="upDownArrow">
            <a:avLst>
              <a:gd name="adj1" fmla="val 50000"/>
              <a:gd name="adj2" fmla="val 50002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5 CuadroTexto"/>
          <p:cNvSpPr/>
          <p:nvPr/>
        </p:nvSpPr>
        <p:spPr>
          <a:xfrm>
            <a:off x="539640" y="1844640"/>
            <a:ext cx="3043440" cy="8254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LEMENTO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14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 Título"/>
          <p:cNvSpPr/>
          <p:nvPr/>
        </p:nvSpPr>
        <p:spPr>
          <a:xfrm>
            <a:off x="685800" y="272880"/>
            <a:ext cx="777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xo 1 Diagrama del alcance del  coordinador de carr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4 Imagen" descr=""/>
          <p:cNvPicPr/>
          <p:nvPr/>
        </p:nvPicPr>
        <p:blipFill>
          <a:blip r:embed="rId3"/>
          <a:stretch/>
        </p:blipFill>
        <p:spPr>
          <a:xfrm>
            <a:off x="633240" y="4686480"/>
            <a:ext cx="1994040" cy="1479240"/>
          </a:xfrm>
          <a:prstGeom prst="rect">
            <a:avLst/>
          </a:prstGeom>
          <a:ln w="0">
            <a:noFill/>
          </a:ln>
        </p:spPr>
      </p:pic>
      <p:grpSp>
        <p:nvGrpSpPr>
          <p:cNvPr id="119" name="1 Grupo"/>
          <p:cNvGrpSpPr/>
          <p:nvPr/>
        </p:nvGrpSpPr>
        <p:grpSpPr>
          <a:xfrm>
            <a:off x="1523880" y="1309680"/>
            <a:ext cx="6096240" cy="4064040"/>
            <a:chOff x="1523880" y="1309680"/>
            <a:chExt cx="6096240" cy="4064040"/>
          </a:xfrm>
        </p:grpSpPr>
        <p:pic>
          <p:nvPicPr>
            <p:cNvPr id="120" name="2 Diagrama" descr=""/>
            <p:cNvPicPr/>
            <p:nvPr/>
          </p:nvPicPr>
          <p:blipFill>
            <a:blip r:embed="rId4"/>
            <a:stretch/>
          </p:blipFill>
          <p:spPr>
            <a:xfrm>
              <a:off x="1523880" y="1309680"/>
              <a:ext cx="6096240" cy="40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10 Flecha derecha"/>
            <p:cNvSpPr/>
            <p:nvPr/>
          </p:nvSpPr>
          <p:spPr>
            <a:xfrm rot="18900000">
              <a:off x="2664000" y="4098960"/>
              <a:ext cx="555480" cy="501480"/>
            </a:xfrm>
            <a:prstGeom prst="rightArrow">
              <a:avLst>
                <a:gd name="adj1" fmla="val 50000"/>
                <a:gd name="adj2" fmla="val 49876"/>
              </a:avLst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5 Imagen" descr=""/>
          <p:cNvPicPr/>
          <p:nvPr/>
        </p:nvPicPr>
        <p:blipFill>
          <a:blip r:embed="rId5"/>
          <a:stretch/>
        </p:blipFill>
        <p:spPr>
          <a:xfrm>
            <a:off x="4643280" y="443700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123" name="6 Flecha arriba y abajo"/>
          <p:cNvSpPr/>
          <p:nvPr/>
        </p:nvSpPr>
        <p:spPr>
          <a:xfrm rot="18945000">
            <a:off x="5100480" y="3497040"/>
            <a:ext cx="484200" cy="1215720"/>
          </a:xfrm>
          <a:prstGeom prst="upDownArrow">
            <a:avLst>
              <a:gd name="adj1" fmla="val 50000"/>
              <a:gd name="adj2" fmla="val 49983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4 Flecha derecha"/>
          <p:cNvSpPr/>
          <p:nvPr/>
        </p:nvSpPr>
        <p:spPr>
          <a:xfrm>
            <a:off x="2824200" y="3068640"/>
            <a:ext cx="307800" cy="504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5 Flecha derecha"/>
          <p:cNvSpPr/>
          <p:nvPr/>
        </p:nvSpPr>
        <p:spPr>
          <a:xfrm>
            <a:off x="6064200" y="3068640"/>
            <a:ext cx="308160" cy="504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6 CuadroTexto"/>
          <p:cNvSpPr/>
          <p:nvPr/>
        </p:nvSpPr>
        <p:spPr>
          <a:xfrm>
            <a:off x="3098880" y="1438200"/>
            <a:ext cx="3043080" cy="8254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SISTEMA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7 CuadroTexto"/>
          <p:cNvSpPr/>
          <p:nvPr/>
        </p:nvSpPr>
        <p:spPr>
          <a:xfrm>
            <a:off x="6875640" y="5516640"/>
            <a:ext cx="1898640" cy="82404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ESTRATEGIAS DE ESTUDIO Y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30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Calibri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71640" y="1052640"/>
            <a:ext cx="72723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66"/>
                </a:solidFill>
                <a:uFillTx/>
                <a:latin typeface="Arial"/>
              </a:rPr>
              <a:t>Técnicas de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Arial"/>
              </a:rPr>
              <a:t>Método de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Arial"/>
              </a:rPr>
              <a:t>Organización y plane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Arial"/>
              </a:rPr>
              <a:t>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Arial"/>
              </a:rPr>
              <a:t>Lectura comprens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Arial"/>
              </a:rPr>
              <a:t>El subray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Arial"/>
              </a:rPr>
              <a:t>El res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Arial"/>
              </a:rPr>
              <a:t>El esqu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Arial"/>
              </a:rPr>
              <a:t>Mem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Arial"/>
              </a:rPr>
              <a:t>Reglas Mnemotéc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Arial"/>
              </a:rPr>
              <a:t>Trabajo por esc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Arial"/>
              </a:rPr>
              <a:t>Como preparar ex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Arial"/>
              </a:rPr>
              <a:t>Técnicas de relaj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Arial"/>
              </a:rPr>
              <a:t>Atención - concen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3:35:21Z</dcterms:created>
  <dc:creator>LIC. CLAUDIA LORETO MIRANDA</dc:creator>
  <dc:description/>
  <dc:language>en-US</dc:language>
  <cp:lastModifiedBy>Usuario</cp:lastModifiedBy>
  <dcterms:modified xsi:type="dcterms:W3CDTF">2011-07-28T18:32:23Z</dcterms:modified>
  <cp:revision>153</cp:revision>
  <dc:subject/>
  <dc:title>Diapositiva 1</dc:title>
</cp:coreProperties>
</file>