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9D22-61AA-484B-A03E-A275C802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E5FC-B7F2-4430-AE7C-5602DDF3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97EF-D981-4062-9FB3-8973511F4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A5DD-836B-4E07-9084-21ED1C80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7EE7-B91C-415E-AEC8-4977101E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5917-5029-423C-8C64-D262FD97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5FD3-7B89-435D-B465-5E73FEAA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A56F-9BAE-467B-BEEB-E9365923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41F1-A0DA-4290-9E63-357166DD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74B6-FA66-4C7E-8F2C-D7D42D25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A7D3-5F28-4148-BA6C-541834A8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979D-CDE8-44CD-8CF0-E56FD7CC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C907-0FF7-4715-B2D0-B32790F61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43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iversidad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2 CuadroTexto"/>
          <p:cNvSpPr/>
          <p:nvPr/>
        </p:nvSpPr>
        <p:spPr>
          <a:xfrm>
            <a:off x="826920" y="1484280"/>
            <a:ext cx="770580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Arial"/>
              </a:rPr>
              <a:t>Programa de Tuto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Sesión anteri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La UNAM y la FI como espacio de desarrollo profesional y hu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ten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La UNAM y la formación de profesionales en el país. Estructura general y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La FI y la formación de ingenieros. Estructura general y obje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Servicios que ofrec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97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iversidad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RESUL_EXAMEN_DIAG"/>
          <p:cNvPicPr/>
          <p:nvPr/>
        </p:nvPicPr>
        <p:blipFill>
          <a:blip r:embed="rId3"/>
          <a:srcRect l="0" t="0" r="445" b="48458"/>
          <a:stretch/>
        </p:blipFill>
        <p:spPr>
          <a:xfrm>
            <a:off x="1258920" y="1341360"/>
            <a:ext cx="65898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103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iversidad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68360" y="2133720"/>
            <a:ext cx="822960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REFLEXIÓN”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109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iversidad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) Recomendar lect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) informar sobre apoyos académicos (asesorías, tallere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) Desarrollar ejerc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) Fortalecer hábitos de e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115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iversidad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AREA DE MATEMÁ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Antecedentes de Geometría y Trigonometrí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rnulfo Andrade Delg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Érik Castañeda de Isla Pu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Jesús E. Nolasco Martín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Jaime Parada Ávi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ditorial Tril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México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121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iversidad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826920" y="1413000"/>
            <a:ext cx="7561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pt-BR" sz="3200" spc="-1" strike="noStrike">
                <a:solidFill>
                  <a:srgbClr val="ffff66"/>
                </a:solidFill>
                <a:latin typeface="Arial"/>
              </a:rPr>
              <a:t>Antecedentes de Geometria Analític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odolfo Solís Ubal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rnulfo Andrade Delg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Felipe Oregel Sánch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5a 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ditorial Tril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éxico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127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iversidad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66"/>
                </a:solidFill>
                <a:uFillTx/>
                <a:latin typeface="Arial"/>
              </a:rPr>
              <a:t>“</a:t>
            </a:r>
            <a:r>
              <a:rPr b="1" lang="es-ES" sz="3200" spc="-1" strike="noStrike" u="sng">
                <a:solidFill>
                  <a:srgbClr val="ffff66"/>
                </a:solidFill>
                <a:uFillTx/>
                <a:latin typeface="Arial"/>
              </a:rPr>
              <a:t>Pre cálculo Funciones y Gráfic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aymund A. Barne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ichael R. Zieg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Karl E. Byl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4a Ed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c GrawH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lombia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133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iversidad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66"/>
                </a:solidFill>
                <a:latin typeface="Arial"/>
              </a:rPr>
              <a:t>ÁREA DE MECÁ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“</a:t>
            </a:r>
            <a:r>
              <a:rPr b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Antecedentes de</a:t>
            </a:r>
            <a:r>
              <a:rPr b="1" lang="es-MX" sz="3200" spc="-1" strike="noStrike" u="sng">
                <a:solidFill>
                  <a:srgbClr val="ffff66"/>
                </a:solidFill>
                <a:uFillTx/>
                <a:latin typeface="Arial"/>
              </a:rPr>
              <a:t> Física</a:t>
            </a:r>
            <a:r>
              <a:rPr b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”</a:t>
            </a:r>
            <a:r>
              <a:rPr b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abriel Jaramillo Mo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nuel Pierrot Gir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lfredo Juárez Tor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. Alejandro Alvarado Castell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1a  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ditorial Tril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éxico, 1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139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iversidad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457200" y="1341360"/>
            <a:ext cx="8229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ÁREA DE QUÍ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66"/>
                </a:solidFill>
                <a:uFillTx/>
                <a:latin typeface="Arial"/>
              </a:rPr>
              <a:t> “</a:t>
            </a:r>
            <a:r>
              <a:rPr b="1" lang="es-ES" sz="3200" spc="-1" strike="noStrike" u="sng">
                <a:solidFill>
                  <a:srgbClr val="ffff66"/>
                </a:solidFill>
                <a:uFillTx/>
                <a:latin typeface="Arial"/>
              </a:rPr>
              <a:t>Conceptos y Aplicacion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John S. Phil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Víctor S. Stroz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heryl Wist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ditorial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Mc GrawH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éxico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145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iversidad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66"/>
                </a:solidFill>
                <a:latin typeface="Arial"/>
              </a:rPr>
              <a:t>ELECTROMAGNETISM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“</a:t>
            </a:r>
            <a:r>
              <a:rPr b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Electricidad y Magnetism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aymond A. Ser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John W. Jewett J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ditorial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Thom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éxico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151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iversidad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826920" y="1600200"/>
            <a:ext cx="7345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“</a:t>
            </a:r>
            <a:r>
              <a:rPr b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Física Universitari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Francis W. S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rk W. Zeman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Hugh D. Yo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11a 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Vol.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earson 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éxico,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49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iversidad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826920" y="1700280"/>
            <a:ext cx="74901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ROGRAMA DE TUTO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TERCERA SES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agnóstico de la situ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adémica del estudian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ts val="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157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iversidad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826920" y="1600200"/>
            <a:ext cx="7345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“</a:t>
            </a:r>
            <a:r>
              <a:rPr b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Física Universitari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Francis W. S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rk W. Zeman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Hugh D. Yo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11a 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Vol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earson 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éxico,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163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iversidad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826920" y="1484280"/>
            <a:ext cx="72741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66"/>
                </a:solidFill>
                <a:uFillTx/>
                <a:latin typeface="Arial"/>
              </a:rPr>
              <a:t>“</a:t>
            </a:r>
            <a:r>
              <a:rPr b="1" lang="es-ES" sz="3200" spc="-1" strike="noStrike" u="sng">
                <a:solidFill>
                  <a:srgbClr val="ffff66"/>
                </a:solidFill>
                <a:uFillTx/>
                <a:latin typeface="Arial"/>
              </a:rPr>
              <a:t>Física Vol. 1 y 2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aul A. Tip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ditorial Rever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169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iversidad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GRACIAS POR SU ATENCIÓ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55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iversidad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684360" y="1700280"/>
            <a:ext cx="77770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Objetiv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os estudiantes realizarán una autoevaluación utilizando los resultados de su examen diagnóstico; identificarán y ponderarán el conocimiento y dominio que tienen de las temáticas antecedentes para iniciar exitosamente los estudios de licenciatura en ingenier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61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iversidad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2 CuadroTexto"/>
          <p:cNvSpPr/>
          <p:nvPr/>
        </p:nvSpPr>
        <p:spPr>
          <a:xfrm>
            <a:off x="826920" y="1484280"/>
            <a:ext cx="7705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Arial"/>
              </a:rPr>
              <a:t>Conteni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Autoevaluación de los antecedentes acadé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Resultados del examen diagnós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Conclusión reflex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67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iversidad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12 CuadroTexto"/>
          <p:cNvSpPr/>
          <p:nvPr/>
        </p:nvSpPr>
        <p:spPr>
          <a:xfrm>
            <a:off x="826920" y="1484280"/>
            <a:ext cx="77058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Arial"/>
              </a:rPr>
              <a:t>DIAGNÓSTICO DE LA SITUACIÓN ACADÉMICA</a:t>
            </a: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Activ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Organizar al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ntrega de formato.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Instrucciones.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Realización del ejerci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Reflexiones.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xamen diagnóstico.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ierre.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73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iversidad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</a:rPr>
              <a:t>ACTIV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</a:rPr>
              <a:t>TÉCNICA DEL SEMÁFO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car con rojo los temas que se desconoc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car con amarillo los temas que se conocen parcial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car con verde los temas que se conocen y comprenden bi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79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iversidad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Lista006"/>
          <p:cNvPicPr/>
          <p:nvPr/>
        </p:nvPicPr>
        <p:blipFill>
          <a:blip r:embed="rId3"/>
          <a:srcRect l="0" t="6571" r="8281" b="4359"/>
          <a:stretch/>
        </p:blipFill>
        <p:spPr>
          <a:xfrm>
            <a:off x="755640" y="1268280"/>
            <a:ext cx="8136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85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iversidad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ANTEC_ACADEMICOS"/>
          <p:cNvPicPr/>
          <p:nvPr/>
        </p:nvPicPr>
        <p:blipFill>
          <a:blip r:embed="rId3"/>
          <a:srcRect l="9547" t="6966" r="323" b="741"/>
          <a:stretch/>
        </p:blipFill>
        <p:spPr>
          <a:xfrm>
            <a:off x="1187280" y="1341360"/>
            <a:ext cx="669780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91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iversidad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CODIGO_COMPLETO"/>
          <p:cNvPicPr/>
          <p:nvPr/>
        </p:nvPicPr>
        <p:blipFill>
          <a:blip r:embed="rId3"/>
          <a:srcRect l="0" t="5385" r="9547" b="741"/>
          <a:stretch/>
        </p:blipFill>
        <p:spPr>
          <a:xfrm>
            <a:off x="1187280" y="1268280"/>
            <a:ext cx="673272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13:35:21Z</dcterms:created>
  <dc:creator>LIC. CLAUDIA LORETO MIRANDA</dc:creator>
  <dc:description/>
  <dc:language>en-US</dc:language>
  <cp:lastModifiedBy>José de Jesús Huezo</cp:lastModifiedBy>
  <dcterms:modified xsi:type="dcterms:W3CDTF">2011-07-25T05:41:37Z</dcterms:modified>
  <cp:revision>127</cp:revision>
  <dc:subject/>
  <dc:title>Diapositiva 1</dc:title>
</cp:coreProperties>
</file>